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309-2995-4F57-8FB4-C7DB6509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27C-38AD-4BB8-AD47-91829B32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16D-61AD-4746-A21D-F1A896DB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A73-1CE5-4262-810E-FC342973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696-3A18-4C8A-B1E5-6C80F977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8DA-D161-41DE-8AA8-393EB25B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9F7-F44A-41EC-8D72-E6891F3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0EB-A47E-478E-933F-7E79F4CC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716-FE9A-4EC1-9BB5-7E0B49F4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8E2-D261-4B7A-936C-DE58061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200-F280-41EC-9B11-88C77E20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983-C092-4240-8123-34549866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1D17-66CB-4EBD-99CF-43CDA9B791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co.kalipedia.com/kalipediamedia/artes/media/200707/18/hisarte/20070718klparthis_609_Ies_SCO.jpg&amp;imgrefurl=http://co.kalipedia.com/historia-universal/tema/inicio-siglo-xx-vanguardias.html%3Fx%3D20070718klparthis_144.Kes&amp;usg=__XuL-YNCIkv1_7eZ3v-dtFDvlyzY=&amp;h=274&amp;w=267&amp;sz=24&amp;hl=es&amp;start=3&amp;tbnid=iwhjcYhw-rSbvM:&amp;tbnh=113&amp;tbnw=110&amp;prev=/images%3Fq%3DVanguardias%26gbv%3D2%26hl%3Des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es/imgres?imgurl=http://avantgroove.files.wordpress.com/2008/06/surrealismo.jpg&amp;imgrefurl=http://avantgroove.wordpress.com/2008/06/09/avantgarde/&amp;usg=__qhXphbvuvfR3dXlLhTWEkJ3cgCk=&amp;h=336&amp;w=406&amp;sz=23&amp;hl=es&amp;start=4&amp;tbnid=jqg_xyd953twaM:&amp;tbnh=103&amp;tbnw=124&amp;prev=/images%3Fq%3Dsurrealismo%26gbv%3D2%26hl%3Des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es/imgres?imgurl=http://usuarios.lycos.es/encofratasparadise/Caligrama_de_Torre.jpg&amp;imgrefurl=http://usuarios.lycos.es/encofratasparadise/caligramas.htm&amp;usg=__RohvVtGIBWfrr3sTraJW0ixZyH0=&amp;h=390&amp;w=370&amp;sz=14&amp;hl=es&amp;start=2&amp;tbnid=KEH9jloz-b53QM:&amp;tbnh=123&amp;tbnw=117&amp;prev=/images%3Fq%3Dcaligrama%26gbv%3D2%26ndsp%3D18%26hl%3Des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es/imgres?imgurl=http://www.visitacasas.com/images/surrealismo2.jpg&amp;imgrefurl=http://www.visitacasas.com/arte/como-decorar-nuestro-hogar-con-cuadros-del-surrealismo/&amp;usg=__VtMbJ_JaxyI1cjzmdh99gT07bQU=&amp;h=374&amp;w=240&amp;sz=28&amp;hl=es&amp;start=23&amp;tbnid=cYFHAJw6fMvXcM:&amp;tbnh=122&amp;tbnw=78&amp;prev=/images%3Fq%3Dcuadros%2Bsurrealistas%26gbv%3D2%26ndsp%3D18%26hl%3Des%26sa%3DN%26start%3D18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log.pucp.edu.pe/media/2006/20090205-tarsila%2520de%2520maral.jpg&amp;imgrefurl=http://blog.pucp.edu.pe/category/5038/blogid/1430&amp;usg=__qy04DWJGLxWat4HyujZ2LHqw_SI=&amp;h=667&amp;w=571&amp;sz=89&amp;hl=es&amp;start=26&amp;tbnid=Lk3v6hQW-RQtpM:&amp;tbnh=138&amp;tbnw=118&amp;prev=/images%3Fq%3Dcuadros%2Bsurrealistas%26gbv%3D2%26ndsp%3D18%26hl%3Des%26sa%3DN%26start%3D1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encapuchadonaranja.com/wp-content/uploads/bombilla2.jpg&amp;imgrefurl=http://www.encapuchadonaranja.com/hoy-cambio-mi-bombilla/&amp;usg=__xK5SFV3l5b778BFUZi_vkc44_ds=&amp;h=248&amp;w=250&amp;sz=9&amp;hl=es&amp;start=4&amp;um=1&amp;tbnid=zl8UJtJpzsPH0M:&amp;tbnh=110&amp;tbnw=111&amp;prev=/images%3Fq%3Dbombilla%26ndsp%3D18%26hl%3Des%26rlz%3D1T4ADSA_esES343ES345%26sa%3DN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solesilla.files.wordpress.com/2008/11/caligrama-de-guillaume-apollinaire2.jpg&amp;imgrefurl=http://solesilla.wordpress.com/2008/11/07/sobre-la-traduccion/&amp;usg=__HazH-I1MDKgRNxJlR95i4S4s48Y=&amp;h=620&amp;w=456&amp;sz=31&amp;hl=es&amp;start=53&amp;um=1&amp;tbnid=QWFu3D8CAfcQSM:&amp;tbnh=136&amp;tbnw=100&amp;prev=/images%3Fq%3Dcaligramas%2Bde%2Bapollinaire%26ndsp%3D18%26hl%3Des%26rlz%3D1T4ADSA_esES343ES345%26sa%3DN%26start%3D36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es/imgres?imgurl=http://1.bp.blogspot.com/_vJqMZ3cbssk/SN5gHQUPS_I/AAAAAAAAAA0/AWIIUe9oKdA/s400/Caligrama2.jpg&amp;imgrefurl=http://porelcaminodelaletra.blogspot.com/2008/09/blog-post_27.html&amp;usg=__fJsqxOE2ga2WpYJE-VRGUGmOSZo=&amp;h=229&amp;w=265&amp;sz=11&amp;hl=es&amp;start=45&amp;um=1&amp;tbnid=JB1BUf5tqFkyeM:&amp;tbnh=97&amp;tbnw=112&amp;prev=/images%3Fq%3Dcaligramas%2Bde%2Bapollinaire%26ndsp%3D18%26hl%3Des%26rlz%3D1T4ADSA_esES343ES345%26sa%3DN%26start%3D36%26um%3D1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thales.cica.es/rd/Recursos/rd99/ed99-0055-01/poemadada.html" TargetMode="External"/><Relationship Id="rId3" Type="http://schemas.openxmlformats.org/officeDocument/2006/relationships/hyperlink" Target="http://thales.cica.es/rd/Recursos/rd99/ed99-0055-01/poemadada.html" TargetMode="External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morfeoeditorial.com/blog/wp-content/adolescencia_salvador_dali.jpg&amp;imgrefurl=http://www.morfeoeditorial.com/blog/2009/05/02/un-dali-robado/&amp;usg=__zNwlVfJ50xwf-3DmL-funkoiDY0=&amp;h=462&amp;w=340&amp;sz=20&amp;hl=es&amp;start=36&amp;um=1&amp;tbnid=JycOk1pbz4O9bM:&amp;tbnh=128&amp;tbnw=94&amp;prev=/images%3Fq%3DCUADROS%2BDE%2BDAL%25C3%258D%26ndsp%3D18%26hl%3Des%26rlz%3D1W1ADSA_es%26sa%3DN%26start%3D18%26um%3D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es/imgres?imgurl=http://www.herencialatina.com/Izzy_Sanabria/Dali.jpg&amp;imgrefurl=http://www.herencialatina.com/Izzy_Sanabria/Izzy_Sanabria.htm&amp;usg=__O3PchMRWcG4HNHYttmmm-qAM_x0=&amp;h=868&amp;w=1009&amp;sz=86&amp;hl=es&amp;start=33&amp;um=1&amp;tbnid=zms97oFfMKpDcM:&amp;tbnh=129&amp;tbnw=150&amp;prev=/images%3Fq%3DCUADROS%2BDE%2BDAL%25C3%258D%26ndsp%3D18%26hl%3Des%26rlz%3D1W1ADSA_es%26sa%3DN%26start%3D18%26um%3D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es/imgres?imgurl=http://www.alu.ua.es/r/rlt6/calendario_primavera_vida_magritte.JPG&amp;imgrefurl=http://machanguito.blogspot.com/2008/07/surrealismo.html&amp;usg=__LbA1LvaDzwmAT9y39G6t4v8OhaU=&amp;h=396&amp;w=477&amp;sz=21&amp;hl=es&amp;start=4&amp;um=1&amp;tbnid=c85KsBurAyUg8M:&amp;tbnh=107&amp;tbnw=129&amp;prev=/images%3Fq%3DCUADROS%2BSURREALISTA%26hl%3Des%26rlz%3D1W1ADSA_es%26um%3D1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rebuchet MS"/>
              </a:rPr>
              <a:t>LAS VANGUAR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rebuchet MS"/>
              </a:rPr>
              <a:t>Movimientos culturales y artísticos muy efímeros y elitistas  que nacen en Europa en el primer tercio del siglo XX y que rompen con la estética anterior reaccionando contra la sensibilidad romántica y con un marcado antisentimentalis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1331640" cy="13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404640"/>
            <a:ext cx="1324080" cy="11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981000"/>
            <a:ext cx="11142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2000" y="404640"/>
            <a:ext cx="1104840" cy="17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0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FUTU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UB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DADAÍ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SURREA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2463840" cy="2881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VANGUARDIAS EUROP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8367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rebuchet MS"/>
              </a:rPr>
              <a:t>FUTUR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Creado por el italiano F. T. Marinetti, exalta la civilización mecánica y técnica, prescinde de la puntuación y de la sintaxis. Considera  objetos poéticos el avión, la bombilla, el automóvi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000" y="5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Sí, cuando quiera y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la soltaré. Está pres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aquí arriba, invisib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Yo la veo en su clar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castillo de cristal, y la vigil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-cien mil lanzas- los ray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-cien mil rayos- del sol. Pero de noch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cerradas las ventan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para que no la ve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-guiñadoras espías- las estrella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la soltaré (Apretar un botón.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Caerá toda de arrib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a besarme, a envolver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de bendición, de claro, de amor, pu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En el cuarto ella y yo no más, ama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eternos, ella mi ilumin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musa dócil en cont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de secretos en masa de la no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-afuera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descifraremos formas leves, sign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perseguidos en mares de blancu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por mí, por ella, artificial princes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amada eléctrica.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99"/>
                </a:solidFill>
                <a:latin typeface="Trebuchet MS"/>
              </a:rPr>
              <a:t>Pedro Salinas</a:t>
            </a:r>
            <a:r>
              <a:rPr b="1" i="1" lang="es-ES" sz="1400" spc="-1" strike="noStrike">
                <a:solidFill>
                  <a:srgbClr val="ffcc99"/>
                </a:solidFill>
                <a:latin typeface="Trebuchet MS"/>
              </a:rPr>
              <a:t>, Seguro Azar</a:t>
            </a: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	</a:t>
            </a: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005360"/>
            <a:ext cx="2016000" cy="199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7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CUB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reado por el francés Guillaume Apollinaire, fragmenta la realidad en composiciones libres (“caligramas” o poemas visules, en los que las letras forman dibuj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04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620640"/>
            <a:ext cx="106668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076720" y="2781360"/>
            <a:ext cx="35560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DADAÍ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reado por  T. Tzara en Suiza, propugna liberar la fantasía a través de un lenguaje incoh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ra ver la técnica de un poema dadaísta y un ejemplo pincha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aqu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1989000"/>
            <a:ext cx="381024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ra ver la técnica de un poema dadaísta y un ejemplo pincha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aqu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SURREA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ado por André Breton, propone la liberación total de la mente de manera similar a como ocurre en los s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24000" y="1915920"/>
            <a:ext cx="4895640" cy="3824280"/>
          </a:xfrm>
          <a:prstGeom prst="rect">
            <a:avLst/>
          </a:prstGeom>
          <a:solidFill>
            <a:srgbClr val="3a1d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La aurora de Nueva York tiene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cuatro columnas de cieno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y un huracán de negras palomas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que chapotean las aguas podridas.</a:t>
            </a:r>
            <a:br>
              <a:rPr sz="2000"/>
            </a:b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La aurora de Nueva York gime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por las inmensas escaleras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buscando entre las aristas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nardos de angustia dibujad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    </a:t>
            </a: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(</a:t>
            </a:r>
            <a:r>
              <a:rPr b="0" lang="es-ES" sz="2000" spc="-1" strike="noStrike">
                <a:solidFill>
                  <a:srgbClr val="ffcc99"/>
                </a:solidFill>
                <a:latin typeface="Trebuchet MS"/>
              </a:rPr>
              <a:t>F. García Lorca</a:t>
            </a: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, Poeta en Nueva Y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04640"/>
            <a:ext cx="89532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04640"/>
            <a:ext cx="1428840" cy="122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87280" y="5373720"/>
            <a:ext cx="1229040" cy="1019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VANGUARDIAS ESPAÑ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REACIONISMO: recurre  a la metáfora para establecer asociaciones ilógicas entre las realidades. El poeta es como un pequeño dios con poderes para crear a través de la palabra. Cultivaron el Creacionismo Vicente Huidobro, Juan Larrea y Gerardo Di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LTRAÍSMO: mezcla  entre Futurismo y Cubismo (temas antisentimentales + poemas visuales). Su representante más destacado es Guillermo de la Tor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URREALISMO: cultivado, sobre todo, por Juan Larrea, R. Alberti (</a:t>
            </a:r>
            <a:r>
              <a:rPr b="0" i="1" lang="es-ES" sz="1800" spc="-1" strike="noStrike">
                <a:solidFill>
                  <a:srgbClr val="000000"/>
                </a:solidFill>
                <a:latin typeface="Trebuchet MS"/>
              </a:rPr>
              <a:t>Sobre los Ángeles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) y F. García Lorca (</a:t>
            </a:r>
            <a:r>
              <a:rPr b="0" i="1" lang="es-ES" sz="1800" spc="-1" strike="noStrike">
                <a:solidFill>
                  <a:srgbClr val="000000"/>
                </a:solidFill>
                <a:latin typeface="Trebuchet MS"/>
              </a:rPr>
              <a:t>Poeta en Nueva York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AMÓN GÓMEZ DE LA SERNA: pionero del Vanguardismo español, destaca por sus “greguería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Un poema creacion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00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COLUMP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A caballo en el quicio del mu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Un soñador jugaba al sí y al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s lluvias de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Emigraban al país de los am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Flores de sí                        Flores de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Cuchillos en el 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Que le rasguen las car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Forman un pu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Sí                                       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Cabalga el soñ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Pájaros arlequ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Cantan el sí                          cantan el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(Gerardo Diego, </a:t>
            </a:r>
            <a:r>
              <a:rPr b="1" i="1" lang="es-ES" sz="1400" spc="-1" strike="noStrike">
                <a:solidFill>
                  <a:srgbClr val="000000"/>
                </a:solidFill>
                <a:latin typeface="Trebuchet MS"/>
              </a:rPr>
              <a:t>Imagen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Algun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greguer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El pez más difícil de pescar es el jabón dentro del b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s primeras gotas de la tormenta bajan a ver si hay tierra en que aterr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os que bajan del avión parecen salir del Arca de No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s latas de conserva vacías quedan con la lengua de hojalata fu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 lechuga es toda enagu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os ceros son los huevos de los que salieron las demás cif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 “ü” con diéresis es la letra malabarista del abeced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s palabras con puntos suspensivos resultan aderezadas con guis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87948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E ANTONIO</cp:lastModifiedBy>
  <dcterms:modified xsi:type="dcterms:W3CDTF">2009-12-22T11:34:39Z</dcterms:modified>
  <cp:revision>16</cp:revision>
  <dc:subject/>
  <dc:title>PowerPoint Presentation</dc:title>
</cp:coreProperties>
</file>